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5372-675E-483B-B7CB-BF17D27DE443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12E5-3A32-4E90-9A45-4506B3110C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24CB-0CB6-48B3-B54F-AB9D1191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A6BE-22E0-420D-B919-20938D8C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5C89-0E62-4BF4-A272-5823725A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BEA0-29B4-4E05-AE76-CF114F0E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AC2C-0D0C-40D0-A4F8-F7EBD578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ECB4-B4AA-459F-9EA3-7528C08F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605F-304D-4FFF-8117-C80D196E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1529-90CF-49F0-BF1C-1107DDA9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4F41-92AE-4C68-9D78-87BBCA1C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F6A6-208D-40E7-9CF5-EE036ACE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5B2D-781D-44BD-A3FD-D32BB940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29FB-80D4-404A-A5C0-F7DFD9FB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5196-C1A2-4FA3-B44E-AAE4EBB2B99C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143000" y="2571840"/>
            <a:ext cx="6643800" cy="599760"/>
            <a:chOff x="1143000" y="2571840"/>
            <a:chExt cx="6643800" cy="59976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13096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4429080" y="2590920"/>
              <a:ext cx="15145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2643120" y="2571840"/>
              <a:ext cx="17002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143000" y="2590920"/>
              <a:ext cx="14479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eneral Assemb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071880" y="304920"/>
              <a:ext cx="342900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pening General Assembl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ppointing Committe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357120" y="1600200"/>
            <a:ext cx="8429760" cy="971640"/>
            <a:chOff x="357120" y="1600200"/>
            <a:chExt cx="84297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205416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643280" y="1600200"/>
              <a:ext cx="20163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he-IL" sz="1800" spc="-1" strike="noStrike">
                  <a:solidFill>
                    <a:srgbClr val="000000"/>
                  </a:solidFill>
                  <a:latin typeface="Calibri"/>
                </a:rPr>
                <a:t>____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50020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35712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86000" y="3214800"/>
            <a:ext cx="4589280" cy="1062360"/>
            <a:chOff x="2286000" y="3214800"/>
            <a:chExt cx="4589280" cy="1062360"/>
          </a:xfrm>
        </p:grpSpPr>
        <p:sp>
          <p:nvSpPr>
            <p:cNvPr id="70" name="Text Box 24"/>
            <p:cNvSpPr/>
            <p:nvPr/>
          </p:nvSpPr>
          <p:spPr>
            <a:xfrm>
              <a:off x="3803760" y="3573360"/>
              <a:ext cx="146700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teering committe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86000" y="3214800"/>
              <a:ext cx="1428840" cy="64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071960" y="321480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143320" y="3214800"/>
              <a:ext cx="220680" cy="36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75080" y="3278160"/>
              <a:ext cx="160020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3929040" y="4869000"/>
            <a:ext cx="1328760" cy="1731600"/>
            <a:chOff x="3929040" y="4869000"/>
            <a:chExt cx="1328760" cy="1731600"/>
          </a:xfrm>
        </p:grpSpPr>
        <p:sp>
          <p:nvSpPr>
            <p:cNvPr id="76" name="Text Box 30"/>
            <p:cNvSpPr/>
            <p:nvPr/>
          </p:nvSpPr>
          <p:spPr>
            <a:xfrm>
              <a:off x="3929040" y="5181480"/>
              <a:ext cx="13287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1860840"/>
            <a:chOff x="5786280" y="4724280"/>
            <a:chExt cx="3129120" cy="186084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10479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Becomes a suggestion to the National &amp; World Veid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he snif is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3960" y="4524120"/>
            <a:ext cx="2974680" cy="2061000"/>
            <a:chOff x="453960" y="4524120"/>
            <a:chExt cx="2974680" cy="206100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emi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252900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ust be corrected by representatives of the committee and the steering committe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4120"/>
              <a:ext cx="2667240" cy="1587960"/>
            </a:xfrm>
            <a:prstGeom prst="bentConnector3">
              <a:avLst>
                <a:gd name="adj1" fmla="val -86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5:22:00Z</dcterms:created>
  <dc:creator>Ilan</dc:creator>
  <dc:description/>
  <dc:language>en-US</dc:language>
  <cp:lastModifiedBy>Ilan</cp:lastModifiedBy>
  <dcterms:modified xsi:type="dcterms:W3CDTF">2010-10-24T05:23:10Z</dcterms:modified>
  <cp:revision>1</cp:revision>
  <dc:subject/>
  <dc:title>Slide 1</dc:title>
</cp:coreProperties>
</file>