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2BBA-073A-4B36-839A-ED0A58AFE773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EAF6-1BA0-47BF-A95D-68F99BC203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47FE-1424-4E49-B058-A1758D39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6CF8-212F-4DED-AF69-9950677C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C0FF-F5F0-4561-9F4B-C51E991B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4C55-53D7-4832-A23A-6512BA79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3AAC-0694-461F-A986-17293118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8BDF-A87A-4913-B4E6-B85544DE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30DD-60BD-4E87-A723-38424494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B647-7B39-48FE-9D12-040443B9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B10D-1D5A-41A4-9109-2354DAAC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1E7D-EC60-4E08-81F2-68E7B9C2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0FDF-17A6-456A-A5CC-9FE7C414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F42-97C1-4E58-A308-3E1B7321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A345-49E0-4912-A688-B12DA098D84A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143000" y="2571840"/>
            <a:ext cx="6643800" cy="599760"/>
            <a:chOff x="1143000" y="2571840"/>
            <a:chExt cx="6643800" cy="59976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13096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4429080" y="2590920"/>
              <a:ext cx="15145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2643120" y="2571840"/>
              <a:ext cx="17002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143000" y="2590920"/>
              <a:ext cx="14479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eneral Assemb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071880" y="304920"/>
              <a:ext cx="342900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pening General Assembl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ppointing Committe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357120" y="1600200"/>
            <a:ext cx="8429760" cy="971640"/>
            <a:chOff x="357120" y="1600200"/>
            <a:chExt cx="84297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205416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643280" y="1600200"/>
              <a:ext cx="20163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he-IL" sz="1800" spc="-1" strike="noStrike">
                  <a:solidFill>
                    <a:srgbClr val="000000"/>
                  </a:solidFill>
                  <a:latin typeface="Calibri"/>
                </a:rPr>
                <a:t>____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50020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35712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86000" y="3214800"/>
            <a:ext cx="4589280" cy="1062360"/>
            <a:chOff x="2286000" y="3214800"/>
            <a:chExt cx="4589280" cy="1062360"/>
          </a:xfrm>
        </p:grpSpPr>
        <p:sp>
          <p:nvSpPr>
            <p:cNvPr id="70" name="Text Box 24"/>
            <p:cNvSpPr/>
            <p:nvPr/>
          </p:nvSpPr>
          <p:spPr>
            <a:xfrm>
              <a:off x="3803760" y="3573360"/>
              <a:ext cx="146700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teering committe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86000" y="3214800"/>
              <a:ext cx="1428840" cy="64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071960" y="321480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143320" y="3214800"/>
              <a:ext cx="220680" cy="36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75080" y="3278160"/>
              <a:ext cx="160020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3929040" y="4869000"/>
            <a:ext cx="1328760" cy="1731600"/>
            <a:chOff x="3929040" y="4869000"/>
            <a:chExt cx="1328760" cy="1731600"/>
          </a:xfrm>
        </p:grpSpPr>
        <p:sp>
          <p:nvSpPr>
            <p:cNvPr id="76" name="Text Box 30"/>
            <p:cNvSpPr/>
            <p:nvPr/>
          </p:nvSpPr>
          <p:spPr>
            <a:xfrm>
              <a:off x="3929040" y="5181480"/>
              <a:ext cx="13287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1860840"/>
            <a:chOff x="5786280" y="4724280"/>
            <a:chExt cx="3129120" cy="186084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10479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Becomes a suggestion to the National &amp; World Veid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he snif is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3960" y="4524120"/>
            <a:ext cx="2974680" cy="2061000"/>
            <a:chOff x="453960" y="4524120"/>
            <a:chExt cx="2974680" cy="206100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emi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252900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ust be corrected by representatives of the committee and the steering committe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4120"/>
              <a:ext cx="2667240" cy="1587960"/>
            </a:xfrm>
            <a:prstGeom prst="bentConnector3">
              <a:avLst>
                <a:gd name="adj1" fmla="val -86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5:22:00Z</dcterms:created>
  <dc:creator>Ilan</dc:creator>
  <dc:description/>
  <dc:language>en-US</dc:language>
  <cp:lastModifiedBy>Ilan</cp:lastModifiedBy>
  <dcterms:modified xsi:type="dcterms:W3CDTF">2010-10-24T05:23:10Z</dcterms:modified>
  <cp:revision>1</cp:revision>
  <dc:subject/>
  <dc:title>Slide 1</dc:title>
</cp:coreProperties>
</file>