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4581-1FD6-454A-B9D4-A1039CA46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9F6E-9FBE-4F83-AE21-706C68169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50D9-2476-47F8-9172-6B63BF16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9264-14DB-4043-9272-7C6387BE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4A86-2CB0-48C8-8B15-63C5455AF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2E9C-2A4F-4849-8DF9-E1C2E1BC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A2C2-8F79-4933-B943-67D43869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3941-2AD3-49CB-B171-B11E9641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1CBA-2CC4-469F-984E-EF45111E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E584-0E2A-47BD-9F60-7187B3C1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1441-9079-4115-812B-BE87119D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E9F5-E315-4A32-B243-29B54EAB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0424-F5C4-408D-9AE7-DAF492BC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AA8D-9598-4775-AF72-917FC31D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1F5D-44A8-4D57-A922-D0C13F2BB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752480" y="2590920"/>
            <a:ext cx="5562720" cy="900000"/>
            <a:chOff x="1752480" y="2590920"/>
            <a:chExt cx="5562720" cy="90000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51055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3581280" y="2666880"/>
              <a:ext cx="762120" cy="8240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752480" y="2590920"/>
              <a:ext cx="83844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</a:rPr>
              <a:t>מלאית סיכום החלט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581280" y="304920"/>
              <a:ext cx="221004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ליאה ראשונית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ינוי ועדו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468360" y="1600200"/>
            <a:ext cx="8064360" cy="971640"/>
            <a:chOff x="468360" y="1600200"/>
            <a:chExt cx="80643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18000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952880" y="1600200"/>
              <a:ext cx="17067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ועדת 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971800" y="1600200"/>
              <a:ext cx="1905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468360" y="1600200"/>
              <a:ext cx="2427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68360" y="3213000"/>
            <a:ext cx="4589280" cy="1072080"/>
            <a:chOff x="2268360" y="3213000"/>
            <a:chExt cx="4589280" cy="1072080"/>
          </a:xfrm>
        </p:grpSpPr>
        <p:sp>
          <p:nvSpPr>
            <p:cNvPr id="70" name="Text Box 24"/>
            <p:cNvSpPr/>
            <p:nvPr/>
          </p:nvSpPr>
          <p:spPr>
            <a:xfrm>
              <a:off x="3962520" y="3581280"/>
              <a:ext cx="129528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Arial"/>
                </a:rPr>
                <a:t>הועדה המתמד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68360" y="3213000"/>
              <a:ext cx="16336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140360" y="328464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036760" y="3276720"/>
              <a:ext cx="220680" cy="36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57440" y="3276720"/>
              <a:ext cx="16002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4038480" y="4869000"/>
            <a:ext cx="1219320" cy="1305360"/>
            <a:chOff x="4038480" y="4869000"/>
            <a:chExt cx="1219320" cy="1305360"/>
          </a:xfrm>
        </p:grpSpPr>
        <p:sp>
          <p:nvSpPr>
            <p:cNvPr id="76" name="Text Box 30"/>
            <p:cNvSpPr/>
            <p:nvPr/>
          </p:nvSpPr>
          <p:spPr>
            <a:xfrm>
              <a:off x="4038480" y="5181480"/>
              <a:ext cx="121932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מחיי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2073960"/>
            <a:chOff x="5786280" y="4724280"/>
            <a:chExt cx="3129120" cy="207396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83844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115956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הווה כהמלצה לועידה המחוזית\הארצית והעולמ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5202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חייב את הסני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4320" y="4523760"/>
            <a:ext cx="2974320" cy="1848240"/>
            <a:chOff x="454320" y="4523760"/>
            <a:chExt cx="2974320" cy="184824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 חלק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18144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ניסוח מחדש ע"י נציגים מהועדה ומהועדה המתמד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3400"/>
              <a:ext cx="2667240" cy="1481760"/>
            </a:xfrm>
            <a:prstGeom prst="bentConnector3">
              <a:avLst>
                <a:gd name="adj1" fmla="val -86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18:56:17Z</dcterms:created>
  <dc:creator>Ilan Frydman</dc:creator>
  <dc:description/>
  <dc:language>en-US</dc:language>
  <cp:lastModifiedBy>Ilan</cp:lastModifiedBy>
  <dcterms:modified xsi:type="dcterms:W3CDTF">2010-10-24T05:23:27Z</dcterms:modified>
  <cp:revision>4</cp:revision>
  <dc:subject/>
  <dc:title>Slide 1</dc:title>
</cp:coreProperties>
</file>